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24D7-3EBF-47A9-96AB-748DB1C8C6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83D0-A47A-41DE-855F-FDDFD59702D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044C-3F87-41B4-9020-2BB6EBC2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54C3-7299-4E3E-BC81-2DBE6AE2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AEB6-3A5A-4DCE-897D-F22994CC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F2D5-F52E-4DA0-B835-630605B6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0716-1074-4F2D-A37E-F0BE7131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27AC-F001-498D-9915-17D77BF7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19B1-7397-409F-B25E-AD7E6616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90DD-45EF-4C79-BE7E-A2921D4A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2167-6163-41D2-9E8B-5FBC5AAE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518C-C698-478C-8BF8-BE85E388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E2F-A7C3-40BF-9B76-D645BBFD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2EC5-A48B-4441-8909-31E5A1DA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2AD1-0E84-4C3D-849D-1A90A5701D3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The Instrument Rating -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“Flying in the Clouds”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1066680" y="1547640"/>
            <a:ext cx="7010640" cy="46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y get an Instrument Rating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335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fly in Instrument Meterological Conditions (IMC) or under Instrument Flight Rules (IFR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fly for hire &gt; 50 miles &amp; at nigh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fly above 18,000 fee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962520" y="1981080"/>
            <a:ext cx="48243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btaining your Instrument Ra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52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ust have at least 50 hours cross-country PIC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Obtain 40 hours of simulated or actual instrument time with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15 hours dual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ne 250 NM cross-country under IF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Up to 20 hours in an FAA approved simul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Knowledge Tes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ractical Tes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4419720" y="114300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4267080" y="3581280"/>
            <a:ext cx="457200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st of an Instrument Rat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4038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iper Warrior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0 hours @ $115/hr = $4600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5 hours dual @ $50/hr = $75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A Knowledge test = $8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actical test = $300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ooks &amp; Suppl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4800600" y="1600200"/>
            <a:ext cx="3782880" cy="251460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4724280" y="50292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~ $6000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Instrument Flying Work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Content Placeholder 7" descr="enroute.JPG"/>
          <p:cNvPicPr/>
          <p:nvPr/>
        </p:nvPicPr>
        <p:blipFill>
          <a:blip r:embed="rId2"/>
          <a:stretch/>
        </p:blipFill>
        <p:spPr>
          <a:xfrm>
            <a:off x="4267080" y="3048120"/>
            <a:ext cx="4764240" cy="3628800"/>
          </a:xfrm>
          <a:prstGeom prst="rect">
            <a:avLst/>
          </a:prstGeom>
          <a:ln w="0">
            <a:noFill/>
          </a:ln>
        </p:spPr>
      </p:pic>
      <p:pic>
        <p:nvPicPr>
          <p:cNvPr id="63" name="Content Placeholder 6" descr="29 approach.JPG"/>
          <p:cNvPicPr/>
          <p:nvPr/>
        </p:nvPicPr>
        <p:blipFill>
          <a:blip r:embed="rId3"/>
          <a:stretch/>
        </p:blipFill>
        <p:spPr>
          <a:xfrm>
            <a:off x="380880" y="1066680"/>
            <a:ext cx="3733920" cy="5666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4"/>
          <a:stretch/>
        </p:blipFill>
        <p:spPr>
          <a:xfrm>
            <a:off x="4295880" y="1155600"/>
            <a:ext cx="461952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3:01:22Z</dcterms:created>
  <dc:creator> </dc:creator>
  <dc:description/>
  <dc:language>en-US</dc:language>
  <cp:lastModifiedBy>Jeremy Katz</cp:lastModifiedBy>
  <dcterms:modified xsi:type="dcterms:W3CDTF">2008-04-16T00:02:07Z</dcterms:modified>
  <cp:revision>18</cp:revision>
  <dc:subject/>
  <dc:title>The Instrument Rating -  “Flying in the Clouds”</dc:title>
</cp:coreProperties>
</file>